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747E-8313-4925-9DB6-ED805642EDF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C25A-AA1A-4559-9044-FC91505FCCF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8619-38AB-4CA0-A256-6BB5281E19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9F71-8AA9-42EE-8A38-841C848CE6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6628-8F37-43EA-B67F-C4E26B544F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8354-10E7-4291-8378-306CE6FF392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B62-9F91-42A2-B5FA-4CCD3C14C6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9E8-F9C8-4D43-A366-356FEC4838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258C-7D5E-409F-B285-9D5E4DFCA4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63F3-C773-4304-8FE6-272DAF6B0E2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9DEB-697A-4A28-98CF-8FB220CC56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337-8B65-4593-878F-6E65BEA8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C44-B3C0-4235-B974-C0A824A4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3B3-1808-4C59-9814-587C380D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CFC-78D7-40DF-A27D-9866B874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2AD-B576-45CD-A2D7-EE1A3D3A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3BA-C169-40FD-ACD2-17733300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CCBB-25F9-4497-B619-A433B673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620E-9435-4F2D-9A8C-81772C29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5B1-BF24-4BB2-B227-EEE016AF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8ED-A6C4-4132-B77F-FE9AC5D0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2ABA-4107-4A7D-89DE-92DDFAA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D02-3694-4901-AD5F-87CF5245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418A-916D-4EC6-AB06-2EDFA2A19F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it/imgres?imgurl=http://www.atervenezia.it/inq/img/tavolo+sedie.gif&amp;imgrefurl=http://www.atervenezia.it/inq/erp/inq_06autogestioni.php&amp;usg=__MU0QZ0suPvMMWMMrBbH2OzJLvSc=&amp;h=70&amp;w=78&amp;sz=4&amp;hl=it&amp;start=97&amp;tbnid=Zp2oCfMDqh2WiM:&amp;tbnh=66&amp;tbnw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wmf"/><Relationship Id="rId6" Type="http://schemas.openxmlformats.org/officeDocument/2006/relationships/image" Target="../media/image2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ATTIVITA PREVENZIONE</a:t>
            </a:r>
            <a:br>
              <a:rPr sz="2400"/>
            </a:b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SERD  ASL SANLURI</a:t>
            </a:r>
            <a:br>
              <a:rPr sz="2400"/>
            </a:b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AL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8400" y="1785960"/>
            <a:ext cx="835812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AL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EDUCAZIONE E PROMOZIONE DELLA SALU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ELETTIVA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SUI GRUPPI A RISCH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SPECIFIC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DETERMINATI FATTORI DI RISCH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SULLA POPOLAZIONE DEI SA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CONDARI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(INTERVENTO PRECOCE SU GRUPPI A RISCHIO/PORTATORI DEL PROBLEM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RZIARI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DELLE COMPLICANZE , DELLA MORTALITA, DELLA DISABILITA, DELLE RECIDIVE,……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COMPETENZA MULTIDISCIPLINARE INTEGRATA ED INTERISTITUZIONALE INTEGR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776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 sert"/>
          <p:cNvPicPr/>
          <p:nvPr/>
        </p:nvPicPr>
        <p:blipFill>
          <a:blip r:embed="rId2"/>
          <a:stretch/>
        </p:blipFill>
        <p:spPr>
          <a:xfrm>
            <a:off x="7340760" y="0"/>
            <a:ext cx="180324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453708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empus Sans ITC"/>
              </a:rPr>
              <a:t>La scuola come luogo privilegiato per gli interventi di prevenzione e di promozione della sa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1345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Sapere, saper fare e saper esser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ostituiscono ambiti di competenza tra loro strettamente interrel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ttenzion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per il raggiungimento del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successo formativo non può essere disgiunta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dal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attenzione alla dimensione affettiva e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l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p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 complessivo stato di benesser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o malessere dello stu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La progettazione di tali attività dovrebbe implicare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una scelta istituziona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culturale e scientifica di alto profi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6588000" y="260280"/>
            <a:ext cx="2376720" cy="647640"/>
            <a:chOff x="6588000" y="260280"/>
            <a:chExt cx="2376720" cy="647640"/>
          </a:xfrm>
        </p:grpSpPr>
        <p:sp>
          <p:nvSpPr>
            <p:cNvPr id="105" name="Oval 5"/>
            <p:cNvSpPr/>
            <p:nvPr/>
          </p:nvSpPr>
          <p:spPr>
            <a:xfrm>
              <a:off x="6588000" y="260280"/>
              <a:ext cx="2376720" cy="647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6761520" y="412200"/>
              <a:ext cx="1969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1527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360" y="22824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mpus Sans ITC"/>
              </a:rPr>
              <a:t>PRO.DI.GI. </a:t>
            </a:r>
            <a:br>
              <a:rPr sz="3200"/>
            </a:br>
            <a:r>
              <a:rPr b="0" lang="it-IT" sz="3200" spc="-1" strike="noStrike">
                <a:solidFill>
                  <a:srgbClr val="3333cc"/>
                </a:solidFill>
                <a:latin typeface="Tempus Sans ITC"/>
              </a:rPr>
              <a:t>Progetto Dipendenze Giovan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9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Nel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2008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coerentemente con tali premesse e in sinergia con l’USP di Cagliari e con l’Assessorato  alle Politiche Sanitarie e Sociali e Pubblica Istruzione della Provincia del Medio Campidano abbiamo promosso la costituzione di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Tavolo Permanente di Studio e Proget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di Interventi di Prevenzione delle Dipendenze Giovanili nei Contesti Scolastic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vitando a parteciparvi gli Istituti di Istruzione Secondaria di Primo e Secondo grado, operatori socio-sanitari della ASL 6 e del Privato Sociale, referenti degli Uffici di Piano dei PLUS dei Distretti di Guspini e Sanl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6767640" y="189000"/>
            <a:ext cx="2376360" cy="671400"/>
            <a:chOff x="6767640" y="189000"/>
            <a:chExt cx="2376360" cy="671400"/>
          </a:xfrm>
        </p:grpSpPr>
        <p:sp>
          <p:nvSpPr>
            <p:cNvPr id="111" name="Oval 5"/>
            <p:cNvSpPr/>
            <p:nvPr/>
          </p:nvSpPr>
          <p:spPr>
            <a:xfrm>
              <a:off x="6767640" y="189000"/>
              <a:ext cx="2376360" cy="6714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6941160" y="346320"/>
              <a:ext cx="1969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113" name="Immagine 1" descr="tavolo%2Bsedi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12000" y="3213000"/>
            <a:ext cx="695520" cy="628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Del mondo della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scuola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sono state invitati a partecipare attivamente una significativa rappresentanza dei diversi “attori” interessa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student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docent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genitor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685800"/>
            <a:ext cx="695520" cy="628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468360" y="4869000"/>
            <a:ext cx="8388360" cy="1245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83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Il Tavolo si propone come organismo interistituzionale </a:t>
            </a:r>
            <a:br>
              <a:rPr sz="2800"/>
            </a:br>
            <a:r>
              <a:rPr b="1" lang="it-IT" sz="2800" spc="-1" strike="noStrike">
                <a:solidFill>
                  <a:srgbClr val="3333cc"/>
                </a:solidFill>
                <a:latin typeface="Bookman Old Style"/>
              </a:rPr>
              <a:t>che persegue le seguenti finalità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11120"/>
            <a:ext cx="73152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FINAL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nalisi congiunta delle problematich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connesse ai comportamenti d’abuso e alle dipendenze e ai bisogni  di benessere degli stud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ttività di progettazione partecipata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che vede coinvolti attivamente i diversi “attori” e protagonisti delle azioni di prevenzi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omozione di processi di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emporwerment giovanil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omuovere negli studenti 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cquisizione di importanti competenze di vita (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Life Skills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Condivisione e integrazione delle esperienz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realizzate nelle diverse scuo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Promuovere la cultura della valutazion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del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efficacia degli interven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5600" y="333360"/>
            <a:ext cx="7419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1392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Anno scolastico 2010 – 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AZIONI REALIZZ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Attività di co-progettazione e realizzazione di 5 progetti </a:t>
            </a:r>
            <a:r>
              <a:rPr b="1" i="1" lang="it-IT" sz="2400" spc="-1" strike="noStrike">
                <a:solidFill>
                  <a:srgbClr val="000000"/>
                </a:solidFill>
                <a:latin typeface="Tempus Sans ITC"/>
              </a:rPr>
              <a:t>“Gli studenti protagonisti della prevenzione: peer educator …”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he hanno interessato i seguenti Istituti di Istruzione Secondaria di II° G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IIS “A. Volta” di Guspini, Arbus e Villaci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IIS “M. Buonarroti” di Gusp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iceo Classico - Linguistico “E. Piga” di Villaci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iceo Scienze Umane - Linguistico “E. Lussu” di San Gavino M.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iceo Scientifico “G. Marconi” di San Gavino M.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7628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486560" cy="11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 … e strategie di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La metodologia della Peer Educa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la cui efficacia è riconosciuta internazionalmente e dall’OM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si basa sul riconoscimento delle potenzialità relazionali e comunicative dei giovani all’interno di interventi di prevenzione nei quali agli studenti è demandato il ruolo di “agenti di informazione e cambiamento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La peer education riconosce g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li student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e i giovani come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soggetti attivi e responsabil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come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risorsa  imprescindi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da porre al centro del percorso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di prevenzione e promozione della sal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fin dalla fase progettuale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di definizione degli obiettivi e delle metodologie di lavoro di grup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16000" y="579600"/>
            <a:ext cx="755640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… e strategie di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54936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147240"/>
            <a:ext cx="7200720" cy="8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… e strategie di prevenzione</a:t>
            </a:r>
            <a:r>
              <a:rPr b="0" lang="it-IT" sz="2800" spc="-1" strike="noStrike">
                <a:solidFill>
                  <a:srgbClr val="e818b6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25000"/>
            <a:ext cx="8686800" cy="554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Dalla metodologia centrata sulla figura del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esperto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con competenze medico-scientifiche, al quale veniva delegata la total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del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tervento,  incapace di toccare gli specifici bisogni del gruppo al quale si rivolgeva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lla metodologia centrata sulla figura del docent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che vanta competenze educative-pedagogiche e può contare su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vicinanz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e sulla continu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della relazione con gli studen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lla metodologia centrata sulle competenze degli student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, secondo il modello de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peer-educati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he li vede come attori principali delle scelte operative e strategiche degli interventi di preven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Immagine 1" descr="tavolo%2Bsed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0492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086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 … e strategie di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7640" y="1980720"/>
            <a:ext cx="78487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Soprattutto in ambiti di intervento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quali sessuali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e droghe gli educatori tra pari sono percepiti come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fonti di informazione p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 credibil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 fornendo, al contempo,  un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modello di ruolo prosocia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he consente di testimoniare comportamenti protettivi anche al di fuori del setting scolas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empus Sans ITC"/>
              </a:rPr>
              <a:t>Si riconosce che i pi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ù</a:t>
            </a:r>
            <a:r>
              <a:rPr b="1" i="1" lang="it-IT" sz="2800" spc="-1" strike="noStrike">
                <a:solidFill>
                  <a:srgbClr val="000000"/>
                </a:solidFill>
                <a:latin typeface="Tempus Sans ITC"/>
              </a:rPr>
              <a:t> efficaci promotori del benessere individuale sono proprio le persone adeguatamente formate e appartenenti allo stesso gruppo sociale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Immagine 1" descr="tavolo%2Bsedie"/>
          <p:cNvPicPr/>
          <p:nvPr/>
        </p:nvPicPr>
        <p:blipFill>
          <a:blip r:embed="rId1"/>
          <a:stretch/>
        </p:blipFill>
        <p:spPr>
          <a:xfrm>
            <a:off x="304920" y="30492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415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Peer education e … metodologie </a:t>
            </a:r>
            <a:br>
              <a:rPr sz="2400"/>
            </a:br>
            <a:r>
              <a:rPr b="1" lang="it-IT" sz="2400" spc="-1" strike="noStrike">
                <a:solidFill>
                  <a:srgbClr val="3333cc"/>
                </a:solidFill>
                <a:latin typeface="Tempus Sans ITC"/>
              </a:rPr>
              <a:t>di lavoro di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Le funzioni esercitate dai peer educator durante la conduzione di grupp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timol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Inform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Facili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Focalizz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Immagine 1" descr="tavolo%2Bsedie"/>
          <p:cNvPicPr/>
          <p:nvPr/>
        </p:nvPicPr>
        <p:blipFill>
          <a:blip r:embed="rId1"/>
          <a:stretch/>
        </p:blipFill>
        <p:spPr>
          <a:xfrm>
            <a:off x="468360" y="404640"/>
            <a:ext cx="6951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ATTIVITA PREVENZIONE</a:t>
            </a:r>
            <a:br>
              <a:rPr sz="2400"/>
            </a:b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SERD  ASL SANLURI</a:t>
            </a:r>
            <a:br>
              <a:rPr sz="2400"/>
            </a:b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DAL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400" y="1785600"/>
            <a:ext cx="839124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DELLE TOSSICODIPENDENZE (riduzione domanda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PROBLEMI ALCOLCORREL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TABAGISMO E PATOLOGIE CORRE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GAP-GIOCO D’AZZARDO  PATOLO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VENZIONE DELLE PRINCIPALI MALATTIE CORRE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FEZIONE HIV/A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FEZIONE VIRUS EPATITE  B-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M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STURBI PSICOPATOLOGICI E PSICHIAT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MOZIONE SICUREZZA STRADALE E PREVENZIONE INFORTUNI (PROGETTO PROVINCIALE E PROGETTO SICURV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88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logo sert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3422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empus Sans ITC"/>
              </a:rPr>
              <a:t>Peer education … il percorso formativo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Obiettivi del percorso forma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  <a:ea typeface="Arial"/>
              </a:rPr>
              <a:t>Acquisizione e implementazione di competenze relazionali, relativamente ai processi di comunicazione  e alle dinamiche di grup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  <a:ea typeface="Arial"/>
              </a:rPr>
              <a:t>Acquisizione di conoscenze e riflessioni relativamente al fenomeno dato dal consumo di sostanze psicoattive  da parte dei giova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  <a:ea typeface="Arial"/>
              </a:rPr>
              <a:t>Articolazione del percorso forma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E’ a cura dell’èquipe  PRO.DI.GI. e dei docenti refer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  <a:ea typeface="Arial"/>
              </a:rPr>
              <a:t>Si avvale di  seminari e laboratori  che si svolgono nei rispettivi istituti scolastici per la durata complessiva di N° 26 o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  <a:ea typeface="Arial"/>
              </a:rPr>
              <a:t>Si avvale  (quando finanziati)  anche di sessioni di approfondimento formativo a carattere residenziale e interscolastico della durata di due gior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Immagine 1" descr="tavolo%2Bsedie"/>
          <p:cNvPicPr/>
          <p:nvPr/>
        </p:nvPicPr>
        <p:blipFill>
          <a:blip r:embed="rId1"/>
          <a:stretch/>
        </p:blipFill>
        <p:spPr>
          <a:xfrm>
            <a:off x="457200" y="380880"/>
            <a:ext cx="6951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705960"/>
            <a:ext cx="678168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empus Sans ITC"/>
              </a:rPr>
              <a:t>Peer Education  … e riflessioni di un peer jun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«La Peer Education ha favorito la mia crescita sviluppando il mio senso critico. Ora sono più consapevole di me stesso e della mia generazione. Questa esperienza ha maturato in me un senso di responsabilità verso i miei compagni di classe e i coetanei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Immagine 1" descr="tavolo%2Bsedie"/>
          <p:cNvPicPr/>
          <p:nvPr/>
        </p:nvPicPr>
        <p:blipFill>
          <a:blip r:embed="rId1"/>
          <a:stretch/>
        </p:blipFill>
        <p:spPr>
          <a:xfrm>
            <a:off x="457200" y="380880"/>
            <a:ext cx="69516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IMG_2473"/>
          <p:cNvPicPr/>
          <p:nvPr/>
        </p:nvPicPr>
        <p:blipFill>
          <a:blip r:embed="rId1"/>
          <a:stretch/>
        </p:blipFill>
        <p:spPr>
          <a:xfrm rot="21141000">
            <a:off x="323640" y="476280"/>
            <a:ext cx="4752720" cy="266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IMG_0952"/>
          <p:cNvPicPr/>
          <p:nvPr/>
        </p:nvPicPr>
        <p:blipFill>
          <a:blip r:embed="rId2"/>
          <a:stretch/>
        </p:blipFill>
        <p:spPr>
          <a:xfrm rot="262200">
            <a:off x="3708000" y="2852280"/>
            <a:ext cx="468000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20140329_124332"/>
          <p:cNvPicPr/>
          <p:nvPr/>
        </p:nvPicPr>
        <p:blipFill>
          <a:blip r:embed="rId1"/>
          <a:stretch/>
        </p:blipFill>
        <p:spPr>
          <a:xfrm>
            <a:off x="0" y="549360"/>
            <a:ext cx="8964720" cy="504180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IMG_0789"/>
          <p:cNvPicPr/>
          <p:nvPr/>
        </p:nvPicPr>
        <p:blipFill>
          <a:blip r:embed="rId1"/>
          <a:stretch/>
        </p:blipFill>
        <p:spPr>
          <a:xfrm>
            <a:off x="318960" y="668160"/>
            <a:ext cx="857412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0" y="0"/>
          <a:ext cx="9144000" cy="6973920"/>
        </p:xfrm>
        <a:graphic>
          <a:graphicData uri="http://schemas.openxmlformats.org/drawingml/2006/table">
            <a:tbl>
              <a:tblPr/>
              <a:tblGrid>
                <a:gridCol w="1332000"/>
                <a:gridCol w="3744720"/>
                <a:gridCol w="2159280"/>
                <a:gridCol w="1908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.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ion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08/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Tavolo perman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ruppi di lavoro scolasti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 gru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09/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Tavolo perman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ormazione congiunta docenti/ opera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 cor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ormazione stud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 semin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10/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: peer educator…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5 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lassi I°-II° IIIS di II°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4 interv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i coinvolti: 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I Genitori protagonisti della prevenzion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aboratori di creativ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 studenti IIS di I°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7 labora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aboratori di riflessione  dialogo (genito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4 labora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11/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Studenti protagonisti della prevenzione: peer educator…”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Modulo operativo SICURPEER: peer educator per la sicurezza stradale…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05 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I°-II° classi  IIS di I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13 interv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udenti coinvolti: 1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I Genitori protagonisti della prevenzion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promozione della salute (I° classe IIS di I°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2 inco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aboratori di riflessione e dialogo (genitor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2 labor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8964720" cy="6753240"/>
        </p:xfrm>
        <a:graphic>
          <a:graphicData uri="http://schemas.openxmlformats.org/drawingml/2006/table">
            <a:tbl>
              <a:tblPr/>
              <a:tblGrid>
                <a:gridCol w="1530360"/>
                <a:gridCol w="3618000"/>
                <a:gridCol w="2016000"/>
                <a:gridCol w="1800360"/>
              </a:tblGrid>
              <a:tr h="71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.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ion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66816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12/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: peer &amp; dispeer educator per la prevenzione del consumo di sostanze psicoat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0 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I°-II° IIS di II°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9 nterv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. Studenti: 1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3° IIS di 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5 inco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15 stud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 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Early detection of drug use and early intervention in childr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contri di formazione/inform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3 incontri  geni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4 incontri doc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13/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: peer &amp; dispeer educator per la prevenzione del consumo di sostanze psicoat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5 pe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I°-II° classi IIS di I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64 interv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. Studenti: 1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3° IIS di 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23 inco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428 stud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 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Early detection of drug use and early intervention in children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contri di formazione/inform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8 incon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centi/genito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0" y="0"/>
          <a:ext cx="9144000" cy="6783480"/>
        </p:xfrm>
        <a:graphic>
          <a:graphicData uri="http://schemas.openxmlformats.org/drawingml/2006/table">
            <a:tbl>
              <a:tblPr/>
              <a:tblGrid>
                <a:gridCol w="1530360"/>
                <a:gridCol w="3389400"/>
                <a:gridCol w="2657520"/>
                <a:gridCol w="1566720"/>
              </a:tblGrid>
              <a:tr h="74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.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g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zion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694800">
                <a:tc rowSpan="8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2014/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“</a:t>
                      </a: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: peer  educator per la prevenzione del consumo di sostanze psicoattive”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Modulo operativo “SICURPEER: peer educator per la sicurezza stradale dei giovani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tivo di base in peer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co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ercorso formazione specialistica in sicurezza strad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 realizzato per inadempienze amministr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I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S di I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a realizz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prevenzione classi II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IS di I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n realizzabi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Gli studenti protagonisti della prevenzione, dalla scuola al territori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ttivazione gruppi territor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rogrammazione attiv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terventi di preven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 1 incon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ttà dei giov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3333cc"/>
                          </a:solidFill>
                          <a:latin typeface="Tempus Sans ITC"/>
                        </a:rPr>
                        <a:t>Progetto Europeo- Programma Regionale “Unplugged - prevenzione dell’uso di tabacco, alcol e drogh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rtecipazione corso per formatori region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rganizzazione corso per doc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ttivazione e supervisione Percorsi di prevenzione classi 3° IIS di I° g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 fase di realizz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02920" y="609480"/>
            <a:ext cx="705492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3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PUNTI DI FO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Creazione e mantenimento di una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rete (di buone relazioni professionali e personali) territoria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e interistituzionale: 15 Istituti scolastici coinvol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Forte motivazione e impegno da parte degli student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(processo di empowerment giovani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Forte motivazione, disponibilità e impegno da parte dei docent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a guidare e sostenere il percorso di empowerment degli student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Forte motivazione da parte degli operatori del SerD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Continuità progettua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Immagine 1" descr="tavolo%2Bsedie"/>
          <p:cNvPicPr/>
          <p:nvPr/>
        </p:nvPicPr>
        <p:blipFill>
          <a:blip r:embed="rId1"/>
          <a:stretch/>
        </p:blipFill>
        <p:spPr>
          <a:xfrm>
            <a:off x="611280" y="47628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7640" y="609480"/>
            <a:ext cx="69105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Tavolo Permanente di Studio e Progettazione di Interventi di Prevenzione delle Dipendenze Giovanili nei Contesti Scolastici”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632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CRITIC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Difficoltà ad integrare le attività progettuali</a:t>
            </a: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 con quelle curricolari (molti docenti non favoriscono la realizzazione delle attività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Scarsità di risorse economi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E’ previsto un finanziamento specifico solo relativamente al Modulo progettuale SICURPEER da parte della 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empus Sans ITC"/>
              </a:rPr>
              <a:t>Surplus di impegno e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mancata incentivazione dei doce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Immagine 1" descr="tavolo%2Bsedie"/>
          <p:cNvPicPr/>
          <p:nvPr/>
        </p:nvPicPr>
        <p:blipFill>
          <a:blip r:embed="rId1"/>
          <a:stretch/>
        </p:blipFill>
        <p:spPr>
          <a:xfrm>
            <a:off x="611280" y="476280"/>
            <a:ext cx="6951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ATTIVITA PREVENZIONE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SERD  ASL SANLURI</a:t>
            </a: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Times New Roman"/>
              </a:rPr>
              <a:t>DAL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700280"/>
            <a:ext cx="850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IC (CENTRO INFORMAZIONE CONSULENZA)-DPR 309/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SPORTELLO PSICOLOGICO IN AMBITO SCOLA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DUCAZIONE SESSUALE E PREVENZIONE MST (CONSULTOR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FERENZA DIBATTITO (SCUOLA-TERRITO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IZIATIVE ISO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OGRAMMA SISTEMA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GETTO “TILT” – RICERCA AZIONE SULLE NUOVE DIPENDENZE /ASSOCIAZIONE SY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GETTO PROMOZIONE DELLA SALUTE E PROBLEMI ALCOLCORREL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UOLE ALCOLOGICHE TERRITORIALI / 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logo sert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920" y="285480"/>
            <a:ext cx="71992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mbulatorio  Pro.Di.G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ttività clinica di prevenzione primaria selettiva e indicata,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di prevenzione seco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000" y="1773000"/>
            <a:ext cx="83516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In accordo con gli </a:t>
            </a:r>
            <a:r>
              <a:rPr b="1" i="1" lang="it-IT" sz="1800" spc="-1" strike="noStrike">
                <a:solidFill>
                  <a:srgbClr val="000000"/>
                </a:solidFill>
                <a:latin typeface="Tempus Sans ITC"/>
              </a:rPr>
              <a:t>Obiettivi prioritari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 del </a:t>
            </a:r>
            <a:r>
              <a:rPr b="1" lang="it-IT" sz="1800" spc="-1" strike="noStrike">
                <a:solidFill>
                  <a:srgbClr val="000000"/>
                </a:solidFill>
                <a:latin typeface="Tempus Sans ITC"/>
              </a:rPr>
              <a:t>Programma Regionale di Interventi nel Settore delle Dipendenze che “</a:t>
            </a: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promuove la territorializzazione dell’assistenza e l’integrazione con gli altri servizi…” e “la diversificazione degli interventi”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Si è voluto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migliorare il livello di accessibilità del Servizio Dipendenze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alle famiglie di adolescenti e giovani che per esigenze di privacy e per  paura dello stigma sociale difficilmente accedono alla sede SerD di Guspini,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ttraverso la realizzazione dell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zioni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itate preferibilmente nell’Ambulatorio di Guardia Medica 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presso la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Casa della Salute di Villacid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6929280" y="214200"/>
            <a:ext cx="2032200" cy="500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Engravers MT"/>
                <a:ea typeface="Arial"/>
              </a:rPr>
              <a:t>PRO.DI.GI 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mbulatorio  Pro.Di.G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ttività clinica di prevenzione primaria selettiva e indicata,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di prevenzione seconda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Azio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Consulenze specialistiche rivolte ai giovani e ai genitor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Esecuzione Drug te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Diagnosi preco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Definizione tipologia di trattamento indica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terventi di sostegno motivazionale rivolti ai giovan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terventi di sostegno psicoeducativo rivolti ai genitor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Monitoraggio clinic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Terapie multidisciplinari integr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0">
              <a:lnSpc>
                <a:spcPct val="9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empus Sans ITC"/>
              </a:rPr>
              <a:t>trattamenti psicologic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empus Sans ITC"/>
              </a:rPr>
              <a:t>psico-socia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-20772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empus Sans ITC"/>
              </a:rPr>
              <a:t>psico-medico-soc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7200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68" name="Oval 5"/>
          <p:cNvSpPr/>
          <p:nvPr/>
        </p:nvSpPr>
        <p:spPr>
          <a:xfrm>
            <a:off x="6929280" y="214200"/>
            <a:ext cx="2032200" cy="5000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Engravers MT"/>
                <a:ea typeface="Arial"/>
              </a:rPr>
              <a:t>PRO.DI.GI 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31640" y="285840"/>
            <a:ext cx="71262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empus Sans ITC"/>
              </a:rPr>
              <a:t>Ambulatorio  Pro.Di.G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Attività clinica di prevenzione primaria selettiva e indicata,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empus Sans ITC"/>
              </a:rPr>
              <a:t>di prevenzione secondaria e terzi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42960" y="1499760"/>
            <a:ext cx="777240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nno 2012</a:t>
            </a:r>
            <a:r>
              <a:rPr b="0" i="1" lang="it-IT" sz="2000" spc="-1" strike="noStrike">
                <a:solidFill>
                  <a:srgbClr val="000000"/>
                </a:solidFill>
                <a:latin typeface="Tempus Sans ITC"/>
              </a:rPr>
              <a:t>: Adesione al </a:t>
            </a:r>
            <a:r>
              <a:rPr b="1" i="1" lang="it-IT" sz="2000" spc="-1" strike="noStrike">
                <a:solidFill>
                  <a:srgbClr val="000000"/>
                </a:solidFill>
                <a:latin typeface="Tempus Sans ITC"/>
              </a:rPr>
              <a:t>Progetto Nazionale “Early dectection and early intervention in childreen - Diagnosi precoce dell’uso di droghe e intervento precoce nei minori”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Che persegue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le finalita’ 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ttivare 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programmi strutturati e permanenti di diagnosi e intervento precoce 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rivolti ai minori e alle loro famigl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Ridurre il ritardo di diagnosi e di intervento 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relativamente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esenza di disturbi comportamentali nei minori (vulnerabilità all’addiction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uso precoce di sostanze psicoattiv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esenza di dipendenz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esenza di patologie corre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6929280" y="214200"/>
            <a:ext cx="2032200" cy="5000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Engravers MT"/>
                <a:ea typeface="Arial"/>
              </a:rPr>
              <a:t>PRO.DI.GI 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Ambulatorio  Pro.Di.G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Attività clinica di prevenzione primaria selettiva e indicata,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e di prevenzione seco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09: N°43 giovani e famigli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0: N° 54 giovani (11 minori) e famigli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1: N° 38 giovani (16 minori) e N° 27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2: N° 42 giovani (16 minori) e N° 24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3: N° 38 giovani (18 minori) e N° 22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 2014: N° 59 giovani (25 minori) e N° 44 famil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6929280" y="214200"/>
            <a:ext cx="2032200" cy="5000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ff"/>
                </a:solidFill>
                <a:latin typeface="Engravers MT"/>
                <a:ea typeface="Arial"/>
              </a:rPr>
              <a:t>PRO.DI.GI 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ATTIVITA PREVENZIONE</a:t>
            </a:r>
            <a:br>
              <a:rPr sz="2400"/>
            </a:b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SERD  ASL SANLURI</a:t>
            </a:r>
            <a:br>
              <a:rPr sz="2400"/>
            </a:b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DAL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4268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CHOOL PREVENTION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IORNATA MONDIALE SENZA TABAC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ETTACOLO TEATRALE + DIBATTIT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GAP-ROVINARSI E UN GIOC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ALIZZAZIONE DI POSTER, LOCANDINE, OPUSCOLI, PARTECIPAZIONE A RADIO/TV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INIZIATIVE REGIONALI/MINISTER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RO.DI.GI. – PROGETTO DIPENDENZE GIOVAN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DAL 2008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(CONTINUITA-PROGRAMMAZIONE-SCIENTIFICITA-INTEGRAZIONE INTERISTITUZION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420920" cy="712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logo sert"/>
          <p:cNvPicPr/>
          <p:nvPr/>
        </p:nvPicPr>
        <p:blipFill>
          <a:blip r:embed="rId2"/>
          <a:stretch/>
        </p:blipFill>
        <p:spPr>
          <a:xfrm>
            <a:off x="7308720" y="189000"/>
            <a:ext cx="14446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177300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empus Sans ITC"/>
              </a:rPr>
              <a:t>Progetto Dipendenze Giovanil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3"/>
          <p:cNvSpPr/>
          <p:nvPr/>
        </p:nvSpPr>
        <p:spPr>
          <a:xfrm rot="14177400">
            <a:off x="5449680" y="5979960"/>
            <a:ext cx="417600" cy="3445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6" name="Oval 4"/>
          <p:cNvSpPr/>
          <p:nvPr/>
        </p:nvSpPr>
        <p:spPr>
          <a:xfrm rot="7428000">
            <a:off x="7328880" y="5547960"/>
            <a:ext cx="255600" cy="436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7" name="Oval 5"/>
          <p:cNvSpPr/>
          <p:nvPr/>
        </p:nvSpPr>
        <p:spPr>
          <a:xfrm rot="17769600">
            <a:off x="1406160" y="5755680"/>
            <a:ext cx="289080" cy="511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8" name="Oval 6"/>
          <p:cNvSpPr/>
          <p:nvPr/>
        </p:nvSpPr>
        <p:spPr>
          <a:xfrm flipV="1" rot="19437000">
            <a:off x="3123720" y="5942520"/>
            <a:ext cx="540000" cy="314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5"/>
          <a:stretch/>
        </p:blipFill>
        <p:spPr>
          <a:xfrm>
            <a:off x="539640" y="333360"/>
            <a:ext cx="1152720" cy="577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logo sert"/>
          <p:cNvPicPr/>
          <p:nvPr/>
        </p:nvPicPr>
        <p:blipFill>
          <a:blip r:embed="rId6"/>
          <a:stretch/>
        </p:blipFill>
        <p:spPr>
          <a:xfrm>
            <a:off x="7524720" y="260280"/>
            <a:ext cx="982800" cy="507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3276720" y="4952880"/>
            <a:ext cx="27367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Tempus Sans ITC"/>
                <a:ea typeface="Arial"/>
              </a:rPr>
              <a:t>SERD ASL 6  SANLURI </a:t>
            </a:r>
            <a:r>
              <a:rPr b="0" i="1" lang="it-IT" sz="1200" spc="-1" strike="noStrike">
                <a:solidFill>
                  <a:srgbClr val="000000"/>
                </a:solidFill>
                <a:latin typeface="Tempus Sans ITC"/>
                <a:ea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empus Sans ITC"/>
            </a:endParaRPr>
          </a:p>
        </p:txBody>
      </p:sp>
      <p:grpSp>
        <p:nvGrpSpPr>
          <p:cNvPr id="72" name="Group 10"/>
          <p:cNvGrpSpPr/>
          <p:nvPr/>
        </p:nvGrpSpPr>
        <p:grpSpPr>
          <a:xfrm>
            <a:off x="3203640" y="2708280"/>
            <a:ext cx="3023640" cy="2015640"/>
            <a:chOff x="3203640" y="2708280"/>
            <a:chExt cx="3023640" cy="2015640"/>
          </a:xfrm>
        </p:grpSpPr>
        <p:sp>
          <p:nvSpPr>
            <p:cNvPr id="73" name="AutoShape 11"/>
            <p:cNvSpPr/>
            <p:nvPr/>
          </p:nvSpPr>
          <p:spPr>
            <a:xfrm>
              <a:off x="3299040" y="2708280"/>
              <a:ext cx="2880720" cy="2015640"/>
            </a:xfrm>
            <a:prstGeom prst="foldedCorner">
              <a:avLst>
                <a:gd name="adj" fmla="val 125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3203640" y="2708280"/>
              <a:ext cx="302364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Britannic Bold"/>
                  <a:ea typeface="Arial"/>
                </a:rPr>
                <a:t>Spazi d’Ascolto e d’Intervento per la Prevenzione delle Dipendenze </a:t>
              </a: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3300"/>
                  </a:solidFill>
                  <a:latin typeface="Britannic Bold"/>
                  <a:ea typeface="Arial"/>
                </a:rPr>
                <a:t>Giovanili</a:t>
              </a: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grpSp>
        <p:nvGrpSpPr>
          <p:cNvPr id="75" name="Group 13"/>
          <p:cNvGrpSpPr/>
          <p:nvPr/>
        </p:nvGrpSpPr>
        <p:grpSpPr>
          <a:xfrm>
            <a:off x="3059280" y="404640"/>
            <a:ext cx="2952720" cy="1008360"/>
            <a:chOff x="3059280" y="404640"/>
            <a:chExt cx="2952720" cy="1008360"/>
          </a:xfrm>
        </p:grpSpPr>
        <p:sp>
          <p:nvSpPr>
            <p:cNvPr id="76" name="Oval 14"/>
            <p:cNvSpPr/>
            <p:nvPr/>
          </p:nvSpPr>
          <p:spPr>
            <a:xfrm>
              <a:off x="3059280" y="404640"/>
              <a:ext cx="2952720" cy="10083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275280" y="641160"/>
              <a:ext cx="24476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</a:t>
              </a: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39640" y="1844640"/>
            <a:ext cx="8077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Dal 2008 il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SerD della ASL 6 di Sanluri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in accordo con il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Programma Regionale di Interventi nel Settore delle Dipendenz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del 2007,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ha investito  risorse professionali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per la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creazione di  una  rete di progettazione e intervento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per la  prevenzione e la cura delle dipendenze  giovanili e per la promozione della salute, in ambito scolastico e territoriale. 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Ha pertanto attivato un percorso di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raccordo, riflessione e azione congiunta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con i giovani, le famiglie, la scuola e altre agenzie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  <a:ea typeface="Arial"/>
              </a:rPr>
              <a:t>sanitarie, sociali, educative e culturali presenti nel territorio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6443640" y="189000"/>
            <a:ext cx="2376360" cy="865080"/>
            <a:chOff x="6443640" y="189000"/>
            <a:chExt cx="2376360" cy="865080"/>
          </a:xfrm>
        </p:grpSpPr>
        <p:sp>
          <p:nvSpPr>
            <p:cNvPr id="80" name="Oval 5"/>
            <p:cNvSpPr/>
            <p:nvPr/>
          </p:nvSpPr>
          <p:spPr>
            <a:xfrm>
              <a:off x="6443640" y="189000"/>
              <a:ext cx="2376360" cy="8650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6617160" y="392040"/>
              <a:ext cx="19699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sp>
        <p:nvSpPr>
          <p:cNvPr id="82" name="Text Box 7"/>
          <p:cNvSpPr/>
          <p:nvPr/>
        </p:nvSpPr>
        <p:spPr>
          <a:xfrm>
            <a:off x="1332000" y="476280"/>
            <a:ext cx="527040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empus Sans ITC"/>
                <a:ea typeface="Arial"/>
              </a:rPr>
              <a:t>PRO.DI.GI.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empus Sans ITC"/>
                <a:ea typeface="Arial"/>
              </a:rPr>
              <a:t>Progetto Dipendenze Giovanili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5543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PRO.DI.GI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Tempus Sans ITC"/>
              </a:rPr>
              <a:t>Progetto Dipendenze Giovanili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Queste in sintesi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le azioni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promosse</a:t>
            </a:r>
            <a:r>
              <a:rPr b="0" lang="it-IT" sz="1400" spc="-1" strike="noStrike">
                <a:solidFill>
                  <a:srgbClr val="000000"/>
                </a:solidFill>
                <a:latin typeface="Tempus Sans ITC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Promozione, progettazione e coordinamento di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interventi di prevenzion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primaria delle dipendenze giovanili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e di promozione della salute nei contesti scolastic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Incontri di sensibilizzazione, informazione e formazione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rivolti a diversi target interessati: genitori, docenti, Centri di Aggregazione, Gruppi Scou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Consulenze specialistiche; Drug Test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;  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percorsi motivazionali e terapeutic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Consulenze, sostegno educativo e psicologico rivolto ai genito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Studio e ricerca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relativamente al fenomeno delle dipendenze giovanili nel nostro terri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Costituzione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Gruppi Operativi di Peer educator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per la  promozione di  azioni di prevenzione e di promozione della salute </a:t>
            </a:r>
            <a:r>
              <a:rPr b="1" lang="it-IT" sz="2000" spc="-1" strike="noStrike">
                <a:solidFill>
                  <a:srgbClr val="000000"/>
                </a:solidFill>
                <a:latin typeface="Tempus Sans ITC"/>
              </a:rPr>
              <a:t>nei territori</a:t>
            </a:r>
            <a:r>
              <a:rPr b="0" lang="it-IT" sz="2000" spc="-1" strike="noStrike">
                <a:solidFill>
                  <a:srgbClr val="000000"/>
                </a:solidFill>
                <a:latin typeface="Tempus Sans ITC"/>
              </a:rPr>
              <a:t> di apparten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6227640" y="260280"/>
            <a:ext cx="2376720" cy="863640"/>
            <a:chOff x="6227640" y="260280"/>
            <a:chExt cx="2376720" cy="863640"/>
          </a:xfrm>
        </p:grpSpPr>
        <p:sp>
          <p:nvSpPr>
            <p:cNvPr id="87" name="Oval 5"/>
            <p:cNvSpPr/>
            <p:nvPr/>
          </p:nvSpPr>
          <p:spPr>
            <a:xfrm>
              <a:off x="6227640" y="260280"/>
              <a:ext cx="2376720" cy="863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88" name="Text Box 6"/>
            <p:cNvSpPr/>
            <p:nvPr/>
          </p:nvSpPr>
          <p:spPr>
            <a:xfrm>
              <a:off x="6401160" y="462960"/>
              <a:ext cx="19699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0436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empus Sans ITC"/>
              </a:rPr>
              <a:t>PRO.DI.GI.</a:t>
            </a:r>
            <a:br>
              <a:rPr sz="3600"/>
            </a:br>
            <a:r>
              <a:rPr b="0" lang="it-IT" sz="3200" spc="-1" strike="noStrike">
                <a:solidFill>
                  <a:srgbClr val="3333cc"/>
                </a:solidFill>
                <a:latin typeface="Tempus Sans ITC"/>
              </a:rPr>
              <a:t>Progetto Dipendenze Giovan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empus Sans ITC"/>
              </a:rPr>
              <a:t>La scuola come contesto privilegiato per la promozione della salute e del benessere tra i giovani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6767640" y="333360"/>
            <a:ext cx="2376360" cy="719280"/>
            <a:chOff x="6767640" y="333360"/>
            <a:chExt cx="2376360" cy="719280"/>
          </a:xfrm>
        </p:grpSpPr>
        <p:sp>
          <p:nvSpPr>
            <p:cNvPr id="93" name="Oval 5"/>
            <p:cNvSpPr/>
            <p:nvPr/>
          </p:nvSpPr>
          <p:spPr>
            <a:xfrm>
              <a:off x="6767640" y="333360"/>
              <a:ext cx="2376360" cy="719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94" name="Text Box 6"/>
            <p:cNvSpPr/>
            <p:nvPr/>
          </p:nvSpPr>
          <p:spPr>
            <a:xfrm>
              <a:off x="6941160" y="502200"/>
              <a:ext cx="196992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500256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empus Sans ITC"/>
              </a:rPr>
              <a:t>La scuola come luogo privilegiato per gli interventi di prevenzione e di promozione della sa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a scuola accogli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per un lungo periodo di vita 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tutti i soggetti in età evolutiva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e offre la possibilità di osservare e monitorare il percorso di crescita e il modello di salute e di benessere sul quale il soggetto sta forgiando il suo personale concetto di “star ben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42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La scuola è un importante ambito di socializzazione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 che concorre alla costruzione e definizione dell’identità, all’affinamento di competenze di autovalutazione, interattive e sociali nonché</a:t>
            </a:r>
            <a:r>
              <a:rPr b="1" lang="it-IT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empus Sans ITC"/>
              </a:rPr>
              <a:t>di abilità utili per un buon adattamento e integrazi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6516720" y="333360"/>
            <a:ext cx="2376360" cy="792000"/>
            <a:chOff x="6516720" y="333360"/>
            <a:chExt cx="2376360" cy="792000"/>
          </a:xfrm>
        </p:grpSpPr>
        <p:sp>
          <p:nvSpPr>
            <p:cNvPr id="99" name="Oval 5"/>
            <p:cNvSpPr/>
            <p:nvPr/>
          </p:nvSpPr>
          <p:spPr>
            <a:xfrm>
              <a:off x="6516720" y="333360"/>
              <a:ext cx="2376360" cy="792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6690240" y="519120"/>
              <a:ext cx="1969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66ff"/>
                  </a:solidFill>
                  <a:latin typeface="Engravers MT"/>
                  <a:ea typeface="Arial"/>
                </a:rPr>
                <a:t>PRO.DI.GI </a:t>
              </a: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152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8:06:32Z</dcterms:created>
  <dc:creator>Francesco</dc:creator>
  <dc:description/>
  <dc:language>en-US</dc:language>
  <cp:lastModifiedBy>Administrator</cp:lastModifiedBy>
  <dcterms:modified xsi:type="dcterms:W3CDTF">2015-03-12T11:42:20Z</dcterms:modified>
  <cp:revision>247</cp:revision>
  <dc:subject/>
  <dc:title>PowerPoint Presentation</dc:title>
</cp:coreProperties>
</file>